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38C2-AB60-4BD4-BE13-E8B289B5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2973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BF2E-1416-40CA-A7E4-506494E8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12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59F9-5D11-4A26-8583-32245F2C9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152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76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152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76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901F-6D67-4458-AA50-04A2AADA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97C3-7ED0-4C26-833D-1277AD35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24A5-C1DE-411A-B220-498C05F2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BC02-2CB0-43DD-98C0-A209A67B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512F-9111-491E-ABF2-8DBB5D28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206280"/>
            <a:ext cx="8075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8D45-805B-4E29-BCC0-8D520859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2850-6332-43A3-8146-EF3E44C5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12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490E-14B7-4452-B29E-3C5E76E9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D8CF-B237-439C-8A36-6B7CEE32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1280" y="476676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87BA-E224-412B-960A-622BB963E202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11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9EE5-FB14-44BC-B65D-0253911AC3F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1"/>
          <p:cNvSpPr/>
          <p:nvPr/>
        </p:nvSpPr>
        <p:spPr>
          <a:xfrm>
            <a:off x="7010280" y="11160"/>
            <a:ext cx="2133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E0C5-A894-411E-85FA-580CCA5AA87A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01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2143080" y="14292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РЕПОРТАЖ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ицей 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5" descr=""/>
          <p:cNvPicPr/>
          <p:nvPr/>
        </p:nvPicPr>
        <p:blipFill>
          <a:blip r:embed="rId2"/>
          <a:stretch/>
        </p:blipFill>
        <p:spPr>
          <a:xfrm>
            <a:off x="3205080" y="968400"/>
            <a:ext cx="2090880" cy="21636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"/>
          <p:cNvPicPr/>
          <p:nvPr/>
        </p:nvPicPr>
        <p:blipFill>
          <a:blip r:embed="rId3"/>
          <a:stretch/>
        </p:blipFill>
        <p:spPr>
          <a:xfrm>
            <a:off x="2340000" y="3333600"/>
            <a:ext cx="3960720" cy="1791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0" descr=""/>
          <p:cNvPicPr/>
          <p:nvPr/>
        </p:nvPicPr>
        <p:blipFill>
          <a:blip r:embed="rId4"/>
          <a:stretch/>
        </p:blipFill>
        <p:spPr>
          <a:xfrm>
            <a:off x="6002280" y="1019160"/>
            <a:ext cx="2016360" cy="21128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2" descr=""/>
          <p:cNvPicPr/>
          <p:nvPr/>
        </p:nvPicPr>
        <p:blipFill>
          <a:blip r:embed="rId5"/>
          <a:stretch/>
        </p:blipFill>
        <p:spPr>
          <a:xfrm>
            <a:off x="969840" y="942840"/>
            <a:ext cx="18018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1"/>
          <p:cNvSpPr/>
          <p:nvPr/>
        </p:nvSpPr>
        <p:spPr>
          <a:xfrm>
            <a:off x="7010280" y="11160"/>
            <a:ext cx="2133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D7C8-8F6E-45C8-AD5C-286D497F5980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01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2143080" y="14292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РЕПОРТАЖ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ицей 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" descr=""/>
          <p:cNvPicPr/>
          <p:nvPr/>
        </p:nvPicPr>
        <p:blipFill>
          <a:blip r:embed="rId2"/>
          <a:stretch/>
        </p:blipFill>
        <p:spPr>
          <a:xfrm>
            <a:off x="900000" y="998640"/>
            <a:ext cx="2303640" cy="16700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"/>
          <p:cNvPicPr/>
          <p:nvPr/>
        </p:nvPicPr>
        <p:blipFill>
          <a:blip r:embed="rId3"/>
          <a:stretch/>
        </p:blipFill>
        <p:spPr>
          <a:xfrm>
            <a:off x="3635280" y="998640"/>
            <a:ext cx="1728720" cy="17254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"/>
          <p:cNvPicPr/>
          <p:nvPr/>
        </p:nvPicPr>
        <p:blipFill>
          <a:blip r:embed="rId4"/>
          <a:stretch/>
        </p:blipFill>
        <p:spPr>
          <a:xfrm>
            <a:off x="6056280" y="998640"/>
            <a:ext cx="2376360" cy="16700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8" descr=""/>
          <p:cNvPicPr/>
          <p:nvPr/>
        </p:nvPicPr>
        <p:blipFill>
          <a:blip r:embed="rId5"/>
          <a:stretch/>
        </p:blipFill>
        <p:spPr>
          <a:xfrm>
            <a:off x="1249200" y="2994120"/>
            <a:ext cx="1820880" cy="1995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0" descr=""/>
          <p:cNvPicPr/>
          <p:nvPr/>
        </p:nvPicPr>
        <p:blipFill>
          <a:blip r:embed="rId6"/>
          <a:stretch/>
        </p:blipFill>
        <p:spPr>
          <a:xfrm>
            <a:off x="3614760" y="3005280"/>
            <a:ext cx="1820880" cy="1995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2" descr=""/>
          <p:cNvPicPr/>
          <p:nvPr/>
        </p:nvPicPr>
        <p:blipFill>
          <a:blip r:embed="rId7"/>
          <a:stretch/>
        </p:blipFill>
        <p:spPr>
          <a:xfrm>
            <a:off x="6357960" y="2976480"/>
            <a:ext cx="160344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1"/>
          <p:cNvSpPr/>
          <p:nvPr/>
        </p:nvSpPr>
        <p:spPr>
          <a:xfrm>
            <a:off x="7010280" y="11160"/>
            <a:ext cx="2133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211E-8E46-4C86-ABDB-5D0ECBD0FB5F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0180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2143080" y="14292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РЕПОРТАЖ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ицей 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8"/>
          <p:cNvSpPr/>
          <p:nvPr/>
        </p:nvSpPr>
        <p:spPr>
          <a:xfrm>
            <a:off x="900000" y="3263760"/>
            <a:ext cx="7632720" cy="173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tt-RU" sz="1200" spc="-1" strike="noStrike">
                <a:solidFill>
                  <a:srgbClr val="000000"/>
                </a:solidFill>
                <a:latin typeface="Arial"/>
              </a:rPr>
              <a:t>Наш лицей продолжает активно участвовать в мероприятиях, приуроченных Году родных языков и народного единства. 21 октября для 1 классов была организована экскурсия на выставку, посвящённую культуре татарского народа, где выставлены проектные работы учащихся в виде национальной одежды, элементов быта, угощений, украшений.  В ходе экскурсии ребята окунулись в историю культуры татарского народа, познакомились с их бытм и традициями. Затем с ребятами был проведен мастер-класс по изготовлению броши  с элементом национального орнамента. Посещение выставки стало значимым событием для них, они с интересом восприняли новую информацию и прониклись новыми впечатлениями</a:t>
            </a:r>
            <a:r>
              <a:rPr b="0" lang="tt-RU" sz="1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"/>
          <p:cNvPicPr/>
          <p:nvPr/>
        </p:nvPicPr>
        <p:blipFill>
          <a:blip r:embed="rId2"/>
          <a:stretch/>
        </p:blipFill>
        <p:spPr>
          <a:xfrm>
            <a:off x="3005280" y="1068480"/>
            <a:ext cx="1769760" cy="20876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"/>
          <p:cNvPicPr/>
          <p:nvPr/>
        </p:nvPicPr>
        <p:blipFill>
          <a:blip r:embed="rId3"/>
          <a:stretch/>
        </p:blipFill>
        <p:spPr>
          <a:xfrm>
            <a:off x="900000" y="1068480"/>
            <a:ext cx="1803600" cy="20192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6" descr=""/>
          <p:cNvPicPr/>
          <p:nvPr/>
        </p:nvPicPr>
        <p:blipFill>
          <a:blip r:embed="rId4"/>
          <a:stretch/>
        </p:blipFill>
        <p:spPr>
          <a:xfrm>
            <a:off x="5076720" y="1068480"/>
            <a:ext cx="159876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"/>
          <p:cNvPicPr/>
          <p:nvPr/>
        </p:nvPicPr>
        <p:blipFill>
          <a:blip r:embed="rId5"/>
          <a:stretch/>
        </p:blipFill>
        <p:spPr>
          <a:xfrm>
            <a:off x="6932520" y="1077840"/>
            <a:ext cx="167184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3T08:15:21Z</dcterms:created>
  <dc:creator>Ковалева Валерия Юрьевна</dc:creator>
  <dc:description/>
  <dc:language>en-US</dc:language>
  <cp:lastModifiedBy>Professional</cp:lastModifiedBy>
  <cp:lastPrinted>2021-02-04T07:26:50Z</cp:lastPrinted>
  <dcterms:modified xsi:type="dcterms:W3CDTF">2021-10-23T11:13:37Z</dcterms:modified>
  <cp:revision>468</cp:revision>
  <dc:subject/>
  <dc:title>Презентация PowerPoint</dc:title>
</cp:coreProperties>
</file>